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C04-E5C6-4F75-8FF8-DD1DC1A6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5CB-44AD-47B0-B448-867556D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9FE-8866-4328-AFC4-0CAEE231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22F-AA02-480A-8744-7C794448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7902-7C73-4FDD-BA2A-18C679B8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F3D8-1195-4363-A0A4-43E3D389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105-60A6-4A06-9800-3D268FB7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BB62-59E3-4BFB-B819-6C0DB08A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EFD9-13B6-4BC8-94FF-96C583DA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6120-F0ED-4EE2-A208-FE205328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DD35-D0AB-44C5-9DCB-53ACA05E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F09-C56D-4BD4-9A48-9714E259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A412-A3C8-488F-B107-817D340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FB8A-8FBB-482D-946D-1F1D8EB3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E725-1DEB-4250-AB05-4649DE62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BC1F-A1DE-4BDA-8DA3-CDA334AE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C86B-167E-4BC7-BD0D-D8F66FB0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6D5-98EC-409A-9F57-9C3B5CCF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E2A-19D8-4CCA-96B4-2C988C6E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946-C2A8-404F-9A0F-631196B0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E7A-2686-48F0-A429-B865B8F9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F32-E23D-45CC-80F0-F438A26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2DA-A91F-440B-B094-3A6B404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BE9-D39D-4587-81A8-5956F035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8DF-3356-48D9-B26F-9DAAE8FF30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F31F-B14A-4882-9751-3AAB5F25B5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0033"/>
                </a:solidFill>
                <a:latin typeface="Times New Roman"/>
              </a:rPr>
              <a:t>ALTE ROMANE  REALISTE INTERBELICE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68240" y="4037040"/>
            <a:ext cx="60469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57200" y="2857680"/>
            <a:ext cx="64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TE ROMANE  REALISTE INTERBEL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7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Examenul de bacalaureat 201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2</a:t>
            </a:r>
            <a:br>
              <a:rPr sz="900"/>
            </a:b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Proba de evaluare a competenţelor digitale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 – document de lucru</a:t>
            </a:r>
            <a:endParaRPr b="0" lang="en-US" sz="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1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8T11:04:35Z</dcterms:modified>
  <cp:revision>2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